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5EC-026A-471E-AE15-6173CF59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AE6-0F8E-4F79-846E-37FFF108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597-21D6-4959-BFAB-D98271A5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156-C314-40DA-9CDB-4B0FF783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E30-5392-478B-9BE8-9F239323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6A9-D070-4ECC-89A7-4D4E6155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EA7-2195-460C-B310-01B6F9F9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383-8268-4876-82E2-FEB08E7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B6C-8403-4129-BFB1-A1AB86C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904-EBA0-4136-B4E2-4CB80E2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DC1-2C9A-406D-9C8A-B6F03DA3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D89-5C02-493F-8D3D-CF9AC683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1342-9190-4B57-AAA3-ECE1AB83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se This Bill That Undoes Existing Net Neutralit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hing but a land grab by internet companies that support Republ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31T00:50:07Z</dcterms:created>
  <dc:creator>Baba</dc:creator>
  <dc:description/>
  <dc:language>en-US</dc:language>
  <cp:lastModifiedBy>Baba</cp:lastModifiedBy>
  <dcterms:modified xsi:type="dcterms:W3CDTF">2017-08-31T00:50:32Z</dcterms:modified>
  <cp:revision>1</cp:revision>
  <dc:subject/>
  <dc:title>Oppose This Bill That Undoes Existing Net Neutrality Rules</dc:title>
</cp:coreProperties>
</file>