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54CA-AF9E-4990-98DE-A9B85A1F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843C-A001-4FCC-9556-04857A94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603D-52E3-42A6-B072-129592C69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5A4C-1C53-43FF-BBC4-572A10C5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02C5-EDE2-44A0-B3CE-054BAB8D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4719-995F-477F-88A1-87C7DD78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0D35-BF82-4C50-B437-C6DA144C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5C8F-92E0-4482-9946-7464BA6C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1991-2BAA-4C95-84DF-03AD34C6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D5C1-B958-4843-9C71-7F97F7B5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9E44-F0EC-4CD2-8B18-EE8ADBA1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BD87-59FB-4E21-8E0A-424C46D3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958A-CDD6-45DE-A299-E9CE8CB6C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pose This Bill That Undoes Existing Net Neutrality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nothing but a land grab by internet companies that support Republ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31T00:50:07Z</dcterms:created>
  <dc:creator>Baba</dc:creator>
  <dc:description/>
  <dc:language>en-US</dc:language>
  <cp:lastModifiedBy>Baba</cp:lastModifiedBy>
  <dcterms:modified xsi:type="dcterms:W3CDTF">2017-08-31T00:50:32Z</dcterms:modified>
  <cp:revision>1</cp:revision>
  <dc:subject/>
  <dc:title>Oppose This Bill That Undoes Existing Net Neutrality Rules</dc:title>
</cp:coreProperties>
</file>